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2.gif" ContentType="image/gif"/>
  <Override PartName="/ppt/media/image10.wmf" ContentType="image/x-wmf"/>
  <Override PartName="/ppt/media/image1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14.jpeg" ContentType="image/jpeg"/>
  <Override PartName="/ppt/media/image5.gif" ContentType="image/gif"/>
  <Override PartName="/ppt/media/image6.gif" ContentType="image/gif"/>
  <Override PartName="/ppt/media/image9.wmf" ContentType="image/x-wm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3C1-2C3B-4F89-8D5B-3CA46611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C9C0-3D5C-47F2-B1F0-F1222369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6299-23FE-44BA-8521-4A3C41DC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C508-96FE-49E1-B8CC-601F47AD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0511-5BC4-495A-84F7-30069D4A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F11-46D2-42E5-860D-DFAAAB4E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4DE2-9A60-49A0-8745-9B231275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F0D6-B79D-431E-8D42-1B8BD3D1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B66D-26DA-4585-B310-BF00A8E0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0A3B-D33A-4298-8A6A-D53D26B6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07B4-9617-41C9-BA3A-44D70477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7B9-423B-431C-95BE-1585F0AA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E74F-D2D6-4088-B3E3-0B08CE24F2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.uk/imgres?imgurl=http://www.redcross.org.uk/uploads/images/montydon.jpg&amp;imgrefurl=http://www.redcross.org.uk/3044&amp;h=250&amp;w=190&amp;sz=36&amp;hl=en&amp;start=18&amp;um=1&amp;tbnid=zOi_udCs1S118M:&amp;tbnh=111&amp;tbnw=84&amp;prev=/images%3Fq%3Dmonty%2Bdon%26svnum%3D10%26um%3D1%26hl%3Den%26cr%3DcountryUK%7CcountryGB%26sa%3DN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71034"/>
          <a:stretch/>
        </p:blipFill>
        <p:spPr>
          <a:xfrm>
            <a:off x="539640" y="1052640"/>
            <a:ext cx="860436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-58" t="28970" r="0" b="0"/>
          <a:stretch/>
        </p:blipFill>
        <p:spPr>
          <a:xfrm>
            <a:off x="0" y="836640"/>
            <a:ext cx="91440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4437000"/>
            <a:ext cx="1476360" cy="1944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Jokerman"/>
              </a:rPr>
              <a:t>Y Sialens Garddio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314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Jokerman"/>
              </a:rPr>
              <a:t>Gwely blodau pwy yw’r mwyaf a faint o hadau sydd angen??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451640" y="4941720"/>
            <a:ext cx="1476360" cy="1411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4920" y="1052640"/>
            <a:ext cx="1095480" cy="933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771640" y="5589720"/>
            <a:ext cx="1285920" cy="1076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284720" y="5589720"/>
            <a:ext cx="1295280" cy="1060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724360" y="5589720"/>
            <a:ext cx="1224000" cy="1028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8172360" y="549360"/>
            <a:ext cx="601920" cy="747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8132760" y="1700280"/>
            <a:ext cx="1011240" cy="101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7740720" y="3716280"/>
            <a:ext cx="98748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humbnail" descr="dimmock ugly.jpg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333360"/>
            <a:ext cx="1170000" cy="1305000"/>
          </a:xfrm>
          <a:prstGeom prst="rect">
            <a:avLst/>
          </a:prstGeom>
          <a:ln w="0">
            <a:noFill/>
          </a:ln>
        </p:spPr>
      </p:pic>
      <p:pic>
        <p:nvPicPr>
          <p:cNvPr id="55" name="thumbnail" descr="alan-titchmarsh.jpg"/>
          <p:cNvPicPr/>
          <p:nvPr/>
        </p:nvPicPr>
        <p:blipFill>
          <a:blip r:embed="rId2">
            <a:grayscl/>
          </a:blip>
          <a:stretch/>
        </p:blipFill>
        <p:spPr>
          <a:xfrm>
            <a:off x="250920" y="1965240"/>
            <a:ext cx="1230120" cy="1308240"/>
          </a:xfrm>
          <a:prstGeom prst="rect">
            <a:avLst/>
          </a:prstGeom>
          <a:ln w="0">
            <a:noFill/>
          </a:ln>
        </p:spPr>
      </p:pic>
      <p:pic>
        <p:nvPicPr>
          <p:cNvPr id="56" name="images" descr="">
            <a:hlinkClick r:id="rId3"/>
          </p:cNvPr>
          <p:cNvPicPr/>
          <p:nvPr/>
        </p:nvPicPr>
        <p:blipFill>
          <a:blip r:embed="rId4">
            <a:grayscl/>
          </a:blip>
          <a:stretch/>
        </p:blipFill>
        <p:spPr>
          <a:xfrm>
            <a:off x="179280" y="3573360"/>
            <a:ext cx="1079640" cy="1297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>
            <a:grayscl/>
          </a:blip>
          <a:srcRect l="26538" t="30020" r="51748" b="45477"/>
          <a:stretch/>
        </p:blipFill>
        <p:spPr>
          <a:xfrm>
            <a:off x="324000" y="5219640"/>
            <a:ext cx="1330200" cy="130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050920" y="70020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Fatty"/>
              </a:rPr>
              <a:t>Cylch diamedr 8.4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2211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Fatty"/>
              </a:rPr>
              <a:t>Petryal 12.4m wrth 4.2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37242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Fatty"/>
              </a:rPr>
              <a:t>Petryal 6.2m wrth 8.4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7840" y="5373720"/>
            <a:ext cx="75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Fatty"/>
              </a:rPr>
              <a:t>Hanner Cylch radiws    </a:t>
            </a:r>
            <a:r>
              <a:rPr b="0" lang="en-GB" sz="3600" spc="-1" strike="noStrike">
                <a:solidFill>
                  <a:srgbClr val="000000"/>
                </a:solidFill>
                <a:latin typeface="Fatty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Fatty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Fatty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Fatty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Fatty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Fatty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Fatty"/>
              </a:rPr>
              <a:t>5.9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429240" y="1341360"/>
            <a:ext cx="2714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Eras Medium ITC"/>
              </a:rPr>
              <a:t>5. Mae perimedr gwely Charlie tua 24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5516640"/>
            <a:ext cx="403236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5516640"/>
            <a:ext cx="403236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3280" y="5445000"/>
            <a:ext cx="35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ndigo Joker"/>
              </a:rPr>
              <a:t>G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44500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ndigo Joker"/>
              </a:rPr>
              <a:t>GW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6165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ndigo Joker"/>
              </a:rPr>
              <a:t>1  5 6 8 9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333360"/>
            <a:ext cx="3873600" cy="8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Eras Medium ITC"/>
              </a:rPr>
              <a:t>2. Gwely blodau Miss Thomas sydd â’r arwynebedd mwya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333360"/>
            <a:ext cx="3186000" cy="95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Eras Medium ITC"/>
              </a:rPr>
              <a:t>1. Bydd Monty yn cael newid o £3.50 allan o £30 ar ôl talu am ei hada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2421000"/>
            <a:ext cx="3184560" cy="93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Eras Medium ITC"/>
              </a:rPr>
              <a:t>6. Wrth dwblu hyd petryal ac hanneru ei led rydych yn cael yr un arwynebed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557360"/>
            <a:ext cx="3184560" cy="79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Eras Medium ITC"/>
              </a:rPr>
              <a:t>3. Mae perimedr gwely Alan a Monty yn haf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3284640"/>
            <a:ext cx="324000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Eras Medium ITC"/>
              </a:rPr>
              <a:t>9. Mae perimedr gwely blodau Monty yn llai na pherimedr gwely blodau Al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581360"/>
            <a:ext cx="3328920" cy="8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Eras Medium ITC"/>
              </a:rPr>
              <a:t>11. Cost hadau Charlie bydd £27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51280" y="1197000"/>
            <a:ext cx="27147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Eras Medium ITC"/>
              </a:rPr>
              <a:t>4. Mae arwynebedd un o’r gwlau tua hanner arwynebedd gwely ar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3280" y="2060640"/>
            <a:ext cx="31863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Eras Medium ITC"/>
              </a:rPr>
              <a:t>7. Mae arwynebedd gwely blodau Charlie tua 1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Eras Medium ITC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Eras Medium ITC"/>
              </a:rPr>
              <a:t> yn fwy na arwynebedd gwely blodau Al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9640" y="3141720"/>
            <a:ext cx="31842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Eras Medium ITC"/>
              </a:rPr>
              <a:t>8. Mae hadau Miss Thomas £1 yn ddrutach na rhai Mo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3860640"/>
            <a:ext cx="3888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Eras Medium ITC"/>
              </a:rPr>
              <a:t>10. Monty sydd â’r arwynebedd llei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03640" y="4149720"/>
            <a:ext cx="287964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Eras Medium ITC"/>
              </a:rPr>
              <a:t>12. Mae angen Charlie  3  yn fwy o becynnau hadau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Eras Medium ITC"/>
              </a:rPr>
              <a:t>A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78 0.07778 C -0.04653 0.08334 -0.04236 0.08843 -0.03507 0.09074 C -0.0283 0.09676 -0.02726 0.10093 -0.01893 0.10371 C -0.00747 0.11899 -0.02032 0.10394 -0.0092 0.11227 C -0.00278 0.11713 0.00156 0.12338 0.0085 0.12732 C 0.02361 0.13565 0.0408 0.13982 0.05694 0.14237 C 0.06441 0.14746 0.07187 0.14931 0.07951 0.15324 C 0.0993 0.1632 0.11875 0.17616 0.13923 0.18334 C 0.15 0.19306 0.16093 0.19838 0.17309 0.20487 C 0.18368 0.21065 0.18819 0.21806 0.20052 0.22199 C 0.2092 0.23056 0.21875 0.2338 0.22795 0.24121 C 0.23125 0.24375 0.23385 0.24815 0.2375 0.25 C 0.24288 0.25278 0.24896 0.25394 0.25364 0.25857 C 0.25573 0.26065 0.25764 0.26343 0.26007 0.26505 C 0.2618 0.26621 0.27778 0.27223 0.27951 0.27362 C 0.28646 0.2794 0.28264 0.27662 0.2908 0.28218 C 0.29132 0.28426 0.29323 0.28681 0.29236 0.28866 C 0.29114 0.29144 0.28802 0.29121 0.28593 0.29283 C 0.27517 0.30093 0.26614 0.30764 0.25364 0.31019 C 0.24271 0.31482 0.2559 0.30857 0.2408 0.31875 C 0.22552 0.32894 0.20868 0.3375 0.19236 0.34445 C 0.18316 0.35371 0.18055 0.35324 0.16823 0.35533 C 0.15625 0.36135 0.14531 0.36412 0.13264 0.36598 C 0.11215 0.37292 0.09097 0.38426 0.06979 0.38542 C 0.0467 0.38658 0.02361 0.38681 0.00052 0.3875 C -0.01702 0.39051 -0.03403 0.39607 -0.05122 0.40047 C -0.05903 0.40764 -0.06771 0.4125 -0.07691 0.41551 C -0.08889 0.42639 -0.0724 0.41274 -0.0915 0.42199 C -0.09445 0.42338 -0.0967 0.42686 -0.09948 0.42848 C -0.10261 0.43033 -0.1092 0.43264 -0.1092 0.43264 C -0.11563 0.43843 -0.11823 0.44399 -0.1125 0.45417 C -0.10052 0.47547 -0.10417 0.46297 -0.09306 0.47778 C -0.08073 0.49422 -0.07084 0.51274 -0.05764 0.52732 C -0.05243 0.53311 -0.05035 0.53959 -0.04462 0.54445 C -0.03959 0.55487 -0.03351 0.56482 -0.02535 0.57037 C -0.01806 0.58311 -0.01441 0.59815 -0.00764 0.61112 C -0.00486 0.61621 -0.00139 0.62061 0.00052 0.62616 C 0.00416 0.63612 0.00781 0.64815 0.01493 0.65417 C 0.01701 0.66227 0.02135 0.66829 0.02465 0.6757 C 0.02673 0.6801 0.03107 0.68866 0.03107 0.68866 C 0.03368 0.70232 0.03125 0.69422 0.03923 0.71019 C 0.04028 0.71204 0.04236 0.71644 0.04236 0.71644 C 0.04531 0.73658 0.04809 0.77014 0.06823 0.77014 E">
                                      <p:cBhvr>
                                        <p:cTn id="70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261 0.06297 C -0.00712 0.06366 -0.06666 0.06297 -0.12639 0.06505 C -0.14687 0.06575 -0.16528 0.08403 -0.18298 0.09514 C -0.19444 0.11065 -0.18889 0.1044 -0.19896 0.11459 C -0.20521 0.13774 -0.20382 0.14098 -0.20069 0.17686 C -0.20052 0.1794 -0.19878 0.18149 -0.19739 0.18334 C -0.19375 0.18866 -0.19028 0.19422 -0.18611 0.19838 C -0.17361 0.21088 -0.15972 0.21922 -0.14427 0.222 C -0.1276 0.2213 -0.11094 0.22176 -0.09427 0.21991 C -0.08472 0.21899 -0.07604 0.20926 -0.06684 0.20695 C -0.05712 0.2044 -0.04739 0.20255 -0.03767 0.2007 C -0.02361 0.19375 -0.00451 0.19098 0.01059 0.18774 C 0.05104 0.18912 0.08872 0.19352 0.1283 0.2007 C 0.13611 0.20556 0.14288 0.21181 0.15104 0.21575 C 0.1533 0.22037 0.15695 0.22362 0.15903 0.22848 C 0.16007 0.23102 0.15972 0.23426 0.16059 0.23704 C 0.1632 0.24491 0.16736 0.25255 0.17188 0.25857 C 0.17379 0.26852 0.17674 0.27662 0.1783 0.28658 C 0.17778 0.30672 0.17813 0.32686 0.17674 0.34676 C 0.1757 0.36112 0.14688 0.37963 0.13802 0.38334 C 0.12639 0.39399 0.11372 0.40301 0.10104 0.41135 C 0.09757 0.41366 0.09323 0.41343 0.08976 0.41575 C 0.08698 0.4176 0.08472 0.42107 0.0816 0.422 C 0.07535 0.42385 0.06875 0.42362 0.06233 0.42431 C 0.0467 0.42362 0.03108 0.42315 0.01545 0.422 C -0.00573 0.42037 -0.02639 0.41135 -0.04739 0.40695 C -0.0592 0.40186 -0.04496 0.40741 -0.0684 0.40278 C -0.08524 0.39931 -0.10139 0.3926 -0.1184 0.38982 C -0.1618 0.39283 -0.13576 0.38704 -0.15868 0.40278 C -0.16024 0.40556 -0.16198 0.40834 -0.16354 0.41135 C -0.1658 0.41551 -0.16996 0.42431 -0.16996 0.42431 C -0.17205 0.43496 -0.17361 0.44329 -0.17482 0.4544 C -0.17361 0.51667 -0.18628 0.52616 -0.16354 0.55533 C -0.15972 0.56528 -0.15399 0.57778 -0.14583 0.58125 C -0.14028 0.58681 -0.13628 0.59352 -0.12969 0.5963 C -0.11875 0.61088 -0.0993 0.62014 -0.08455 0.62639 C -0.071 0.63866 -0.03368 0.64005 -0.0184 0.64144 C 0.00156 0.6463 0.02118 0.65024 0.04132 0.6544 C 0.0474 0.65695 0.05295 0.66042 0.05903 0.66297 C 0.07639 0.67871 0.05 0.65602 0.07031 0.66945 C 0.08924 0.68218 0.06702 0.67176 0.0816 0.67801 C 0.08716 0.68357 0.09219 0.68588 0.09775 0.69098 C 0.1007 0.70325 0.0967 0.69306 0.10417 0.69954 C 0.10608 0.70116 0.10747 0.70394 0.10903 0.70602 C 0.11511 0.73149 0.11233 0.72616 0.11233 0.77037 E">
                                      <p:cBhvr>
                                        <p:cTn id="74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8 0.06504 C 0.15069 0.06689 0.20885 0.07106 0.26823 0.07801 C 0.28559 0.08356 0.25833 0.07523 0.29236 0.0824 C 0.30295 0.08472 0.31267 0.08981 0.32309 0.09305 C 0.33958 0.09814 0.35659 0.10139 0.37309 0.10602 C 0.38993 0.11064 0.40642 0.11782 0.42309 0.12314 C 0.43298 0.12639 0.4434 0.12453 0.45364 0.12523 C 0.47048 0.13426 0.48889 0.13634 0.50694 0.13819 C 0.51389 0.14051 0.52083 0.14282 0.52795 0.14467 C 0.52899 0.16713 0.52916 0.18102 0.53437 0.20069 C 0.54253 0.29051 0.53593 0.21296 0.53923 0.42847 C 0.53941 0.44282 0.53958 0.44097 0.54392 0.45 C 0.5434 0.45856 0.54878 0.4743 0.54236 0.47592 C 0.48576 0.49097 0.43403 0.46435 0.37951 0.45648 C 0.36389 0.44861 0.34757 0.44861 0.33107 0.44583 C 0.28784 0.43032 0.24357 0.425 0.19878 0.4199 C 0.02257 0.42291 0.06493 0.36967 0.06493 0.60486 E">
                                      <p:cBhvr>
                                        <p:cTn id="78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625 -0.02153 C 0.16111 -0.03125 0.16701 -0.04584 0.17552 -0.04954 C 0.18281 -0.05926 0.18837 -0.06412 0.19809 -0.06667 C 0.22899 -0.06459 0.23559 -0.06574 0.25937 -0.04954 C 0.27118 -0.04144 0.28194 -0.03588 0.2901 -0.02153 C 0.29427 -0.00417 0.28732 -0.0301 0.29809 -0.0044 C 0.29913 -0.00185 0.29861 0.00162 0.29965 0.00416 C 0.30087 0.0074 0.30295 0.00995 0.30451 0.01273 C 0.30607 0.01828 0.30781 0.02407 0.30781 0.03009 C 0.30781 0.08819 0.30937 0.09398 0.30139 0.13333 C 0.30052 0.13796 0.2967 0.15949 0.29496 0.16111 C 0.28264 0.17222 0.28021 0.17176 0.26423 0.17407 C 0.25278 0.20532 0.25538 0.30324 0.25451 0.32685 C 0.25399 0.36342 0.25364 0.4 0.25295 0.43657 C 0.25 0.60139 0.28871 0.58889 0.23194 0.5956 C 0.22986 0.59629 0.22778 0.59722 0.22552 0.59768 C 0.22066 0.59861 0.2158 0.59861 0.21111 0.6 C 0.20069 0.60301 0.19288 0.61296 0.18368 0.61921 E">
                                      <p:cBhvr>
                                        <p:cTn id="82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86 -0.05625 C 0.02136 -0.05208 0.00938 -0.0456 -0.00312 -0.0412 C -0.00885 -0.03634 -0.0151 -0.03565 -0.02083 -0.03055 C -0.03229 -0.02037 -0.0368 -0.01458 -0.04826 -0.00694 C -0.05451 -0.00278 -0.0585 0.00556 -0.06441 0.01042 C -0.08003 0.02338 -0.09427 0.03959 -0.10955 0.05324 C -0.11701 0.06783 -0.13073 0.08033 -0.14184 0.08982 C -0.14739 0.1007 -0.14357 0.09491 -0.15486 0.10486 C -0.15989 0.10926 -0.1625 0.11783 -0.16771 0.12222 C -0.18073 0.13334 -0.18993 0.15 -0.20312 0.16088 C -0.21041 0.17523 -0.20104 0.1588 -0.21441 0.17384 C -0.21875 0.17871 -0.22135 0.1882 -0.22569 0.19306 C -0.22812 0.19584 -0.23125 0.19699 -0.23385 0.19954 C -0.24409 0.20972 -0.25017 0.22709 -0.26128 0.23611 C -0.27118 0.24421 -0.26701 0.23959 -0.27413 0.24908 C -0.27656 0.2588 -0.28489 0.26551 -0.29028 0.27269 C -0.2967 0.28125 -0.30312 0.28982 -0.30955 0.29838 C -0.31093 0.30023 -0.31128 0.30324 -0.31284 0.30486 C -0.31528 0.30764 -0.3184 0.3088 -0.32083 0.31134 C -0.34548 0.33843 -0.321 0.31574 -0.33541 0.32871 C -0.34392 0.34491 -0.33212 0.32361 -0.34514 0.34144 C -0.3559 0.35602 -0.33993 0.34028 -0.35312 0.35232 C -0.35694 0.35972 -0.36059 0.36435 -0.36614 0.36945 C -0.37066 0.37871 -0.38316 0.39097 -0.39028 0.39746 C -0.39323 0.40949 -0.40225 0.41181 -0.40798 0.42315 C -0.41198 0.43102 -0.41284 0.43334 -0.41927 0.44051 C -0.42222 0.44375 -0.42621 0.44537 -0.42899 0.44908 C -0.4401 0.46389 -0.43489 0.4588 -0.44357 0.46621 C -0.44653 0.47847 -0.44375 0.47153 -0.45642 0.48334 C -0.45798 0.48472 -0.46128 0.48773 -0.46128 0.48773 C -0.46823 0.50232 -0.47968 0.51459 -0.49028 0.52431 C -0.49462 0.53264 -0.4993 0.54283 -0.50642 0.54584 C -0.50798 0.54792 -0.50937 0.55046 -0.51128 0.55232 C -0.51319 0.55417 -0.5158 0.5544 -0.51771 0.55648 C -0.51927 0.5581 -0.51944 0.56111 -0.52083 0.56296 C -0.52222 0.56482 -0.52413 0.56597 -0.52569 0.56736 C -0.53316 0.5838 -0.53281 0.575 -0.54184 0.58889 C -0.54687 0.59653 -0.55139 0.60486 -0.55642 0.6125 C -0.55955 0.61713 -0.56284 0.62107 -0.56614 0.62546 C -0.56753 0.62732 -0.56927 0.63171 -0.56927 0.63171 E">
                                      <p:cBhvr>
                                        <p:cTn id="86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12 -0.07245 C 0.08611 -0.075 0.09132 -0.08333 0.09913 -0.08541 C 0.11424 -0.09004 0.12882 -0.0956 0.14427 -0.09814 C 0.14635 -0.09884 0.14861 -0.09953 0.15069 -0.10046 C 0.15365 -0.10231 0.1559 -0.10555 0.15885 -0.10694 C 0.17135 -0.11319 0.19062 -0.11504 0.20399 -0.11782 C 0.22309 -0.13055 0.19653 -0.11342 0.2184 -0.12407 C 0.22812 -0.1287 0.23767 -0.13472 0.24757 -0.13912 C 0.25781 -0.14375 0.26753 -0.15069 0.27812 -0.15416 C 0.28785 -0.16088 0.29861 -0.1625 0.30885 -0.16713 C 0.32222 -0.17314 0.33073 -0.17939 0.34427 -0.18217 C 0.36319 -0.19514 0.38403 -0.20509 0.40399 -0.21435 C 0.41146 -0.21782 0.42656 -0.22291 0.42656 -0.22291 C 0.43837 -0.23356 0.45139 -0.23703 0.46354 -0.24652 C 0.47899 -0.25879 0.49444 -0.26828 0.51042 -0.27893 C 0.51892 -0.28472 0.53021 -0.2956 0.53941 -0.29814 C 0.55087 -0.30139 0.54497 -0.2993 0.55712 -0.30463 C 0.56892 -0.31527 0.58542 -0.32685 0.59913 -0.33264 C 0.61545 -0.33958 0.5901 -0.32893 0.61042 -0.33703 C 0.61372 -0.33842 0.62014 -0.3412 0.62014 -0.3412 C 0.62812 -0.34861 0.62257 -0.3449 0.63611 -0.34768 C 0.64306 -0.34907 0.65712 -0.35208 0.65712 -0.35208 C 0.67205 -0.35856 0.66337 -0.35671 0.68299 -0.35416 C 0.68003 -0.22963 0.67951 -0.10463 0.67656 0.02014 C 0.67604 0.07176 0.67587 0.12315 0.67483 0.17477 C 0.67465 0.18056 0.67639 0.18797 0.67326 0.19213 C 0.67066 0.19561 0.66441 0.1801 0.66354 0.17917 C 0.6533 0.16736 0.65729 0.17871 0.64913 0.16412 C 0.63767 0.14398 0.62639 0.12824 0.60885 0.1169 C 0.59948 0.1044 0.58142 0.08334 0.57014 0.07593 C 0.56684 0.07385 0.56337 0.07223 0.56042 0.06945 C 0.54896 0.05903 0.53854 0.04468 0.52656 0.03519 C 0.52135 0.03102 0.5151 0.02917 0.51042 0.02431 C 0.50017 0.01343 0.48872 0.00625 0.47812 -0.0037 C 0.46771 -0.01365 0.45799 -0.0243 0.44757 -0.03379 C 0.43802 -0.05254 0.45069 -0.03055 0.43941 -0.04236 C 0.43785 -0.04421 0.4375 -0.04722 0.43611 -0.04884 C 0.43316 -0.05231 0.42951 -0.05416 0.42656 -0.0574 C 0.42378 -0.06018 0.42101 -0.06319 0.4184 -0.06597 C 0.40851 -0.07801 0.39878 -0.09004 0.38941 -0.10254 C 0.38385 -0.10995 0.37795 -0.11967 0.3717 -0.12615 C 0.36684 -0.13125 0.35712 -0.1412 0.35712 -0.1412 C 0.35382 -0.15046 0.35156 -0.15509 0.34427 -0.15856 C 0.32882 -0.18773 0.30278 -0.20833 0.27969 -0.22523 C 0.26024 -0.23958 0.24236 -0.25764 0.22326 -0.27245 C 0.20937 -0.28333 0.19531 -0.29328 0.18142 -0.30463 C 0.17847 -0.30694 0.17465 -0.30648 0.1717 -0.30902 C 0.16493 -0.31481 0.15677 -0.32083 0.14913 -0.32407 C 0.14028 -0.33194 0.13212 -0.33842 0.1217 -0.3412 C 0.11649 -0.34606 0.11163 -0.34722 0.10556 -0.34977 C 0.09549 -0.3412 0.09774 -0.32106 0.09271 -0.30694 C 0.0901 -0.29977 0.08733 -0.29259 0.08455 -0.28541 C 0.08299 -0.28102 0.07969 -0.27245 0.07969 -0.27245 C 0.07587 -0.23055 0.08108 -0.275 0.07483 -0.24444 C 0.06944 -0.21828 0.06736 -0.18935 0.06354 -0.16273 C 0.05538 -0.10509 0.04826 -0.04652 0.03941 0.01111 C 0.03455 0.04352 0.02899 0.0757 0.02483 0.10811 C 0.02326 0.11968 0.02014 0.1426 0.02014 0.1426 C 0.02031 0.1882 -0.03021 0.41459 0.03941 0.43727 C 0.04757 0.44815 0.04062 0.44028 0.05069 0.44792 C 0.05243 0.44931 0.05382 0.45116 0.05556 0.45209 C 0.05712 0.45324 0.06042 0.4544 0.06042 0.4544 E">
                                      <p:cBhvr>
                                        <p:cTn id="90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039 -0.07291 C 0.17744 -0.09537 0.17657 -0.11666 0.17553 -0.13958 C 0.17171 -0.39514 0.21962 -0.36759 0.12691 -0.35648 C 0.09723 -0.34537 0.06632 -0.34004 0.03629 -0.32986 C 0.00434 -0.30787 -0.05659 -0.31157 -0.0901 -0.30787 C -0.15486 -0.30949 -0.21944 -0.31203 -0.2842 -0.31227 C -0.38298 -0.3125 -0.48177 -0.31481 -0.58038 -0.31018 C -0.58385 -0.30995 -0.5835 -0.29676 -0.5835 -0.29652 C -0.58437 -0.18333 -0.58697 -0.07592 -0.59166 0.03542 C -0.59114 0.08519 -0.61041 0.14352 -0.58993 0.18403 C -0.57586 0.21204 -0.54027 0.18635 -0.51562 0.18611 C -0.32968 0.18473 0.04271 0.17963 0.04271 0.17986 C 0.05938 0.18033 0.07622 0.17986 0.09289 0.18148 C 0.09532 0.18172 0.09931 0.18287 0.09931 0.18611 C 0.10087 0.26019 0.09879 0.33403 0.09775 0.40764 C 0.09757 0.4213 0.09566 0.43681 0.09289 0.44954 C 0.0908 0.45926 0.08316 0.47639 0.08316 0.47662 C 0.0816 0.48588 0.07796 0.49028 0.07518 0.49861 E">
                                      <p:cBhvr>
                                        <p:cTn id="94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458 0.13819 C 0.12448 0.13148 0.13594 0.12546 0.14705 0.12315 C 0.15139 0.11435 0.15694 0.11412 0.16319 0.10787 C 0.17222 0.09884 0.18212 0.08773 0.18906 0.07569 C 0.20104 0.0544 0.21267 0.02639 0.21806 0.00046 C 0.22014 -0.00949 0.22031 -0.01968 0.22292 -0.02963 C 0.23004 -0.08866 0.22622 -0.18773 0.20833 -0.25324 C 0.2033 -0.27153 0.19722 -0.29445 0.18733 -0.30926 C 0.18281 -0.31597 0.17865 -0.32338 0.17292 -0.32847 C 0.16962 -0.33125 0.16319 -0.33704 0.16319 -0.33704 C 0.15694 -0.34954 0.14618 -0.35602 0.13576 -0.36088 C 0.10885 -0.37384 0.08177 -0.37824 0.0533 -0.38241 C 0.04688 -0.38333 0.03194 -0.38611 0.02604 -0.38658 C 0.01372 -0.3875 0.00139 -0.38796 -0.01094 -0.38866 C -0.03802 -0.38773 -0.07535 -0.3919 -0.10295 -0.37801 C -0.11701 -0.37107 -0.12917 -0.3588 -0.14323 -0.35208 C -0.15017 -0.34537 -0.15625 -0.3412 -0.16424 -0.33704 C -0.17552 -0.32199 -0.18958 -0.3125 -0.20295 -0.3007 C -0.21927 -0.28658 -0.20087 -0.30162 -0.21424 -0.28773 C -0.23611 -0.26528 -0.21233 -0.2919 -0.23351 -0.27269 C -0.24167 -0.26528 -0.25816 -0.24607 -0.26424 -0.23611 C -0.26545 -0.23403 -0.26597 -0.23125 -0.26736 -0.22963 C -0.26979 -0.22685 -0.27309 -0.2257 -0.27552 -0.22315 C -0.27795 -0.2206 -0.27951 -0.21713 -0.28194 -0.21458 C -0.28507 -0.21134 -0.28837 -0.2088 -0.29167 -0.20602 C -0.29323 -0.20232 -0.29444 -0.19838 -0.29653 -0.19514 C -0.3 -0.18958 -0.30781 -0.18009 -0.30781 -0.18009 C -0.31302 -0.16597 -0.32101 -0.15533 -0.32882 -0.14375 C -0.33437 -0.13519 -0.33698 -0.12454 -0.34167 -0.11574 C -0.34983 -0.10093 -0.34358 -0.11852 -0.35139 -0.1007 C -0.35573 -0.09097 -0.36024 -0.0787 -0.36424 -0.06829 C -0.36632 -0.05671 -0.36979 -0.04468 -0.37396 -0.03403 C -0.37743 -0.00579 -0.38316 0.0213 -0.38524 0.05 C -0.38472 0.08217 -0.3842 0.11458 -0.38351 0.14676 C -0.38316 0.16042 -0.38316 0.17407 -0.38194 0.1875 C -0.38038 0.20509 -0.37135 0.21991 -0.3658 0.23495 C -0.36128 0.24699 -0.35677 0.25972 -0.34809 0.2669 C -0.34184 0.27824 -0.33472 0.29005 -0.32552 0.29722 C -0.32101 0.30046 -0.3158 0.30139 -0.31094 0.3037 C -0.30937 0.3044 -0.30608 0.30579 -0.30608 0.30579 C -0.30226 0.30926 -0.29809 0.31227 -0.29479 0.31643 C -0.28958 0.32361 -0.28715 0.33079 -0.28038 0.3338 C -0.2783 0.33565 -0.27621 0.33842 -0.27396 0.34028 C -0.2724 0.3412 -0.27049 0.3412 -0.2691 0.34213 C -0.26007 0.35046 -0.26875 0.34884 -0.25937 0.34884 E">
                                      <p:cBhvr>
                                        <p:cTn id="98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65 -0.09283 C -0.0276 -0.13172 -0.02587 -0.16042 -0.02378 -0.19815 C -0.02344 -0.20325 -0.02326 -0.20834 -0.02222 -0.2132 C -0.02101 -0.21899 -0.01736 -0.23033 -0.01736 -0.23033 C -0.01632 -0.24098 -0.01562 -0.25996 -0.01094 -0.26922 C -0.00799 -0.275 -0.00642 -0.27732 -0.00451 -0.28426 C -0.00191 -0.29329 -0.00122 -0.30116 0.00208 -0.30996 C 0.0026 -0.31274 0.00278 -0.31575 0.00365 -0.31852 C 0.0059 -0.32593 0.0099 -0.33241 0.01163 -0.34005 C 0.01563 -0.35834 0.02083 -0.37616 0.02622 -0.39375 C 0.02795 -0.40811 0.02934 -0.42315 0.03264 -0.43681 C 0.03212 -0.4426 0.03403 -0.45 0.03108 -0.45417 C 0.02882 -0.45741 0.03003 -0.44561 0.02951 -0.44121 C 0.02882 -0.43542 0.0283 -0.42987 0.02778 -0.42408 C 0.02639 -0.40973 0.02448 -0.37871 0.02292 -0.36806 C 0.0191 -0.34167 0.01441 -0.31482 0.01163 -0.28843 C 0.00972 -0.27014 0.00868 -0.25209 0.00365 -0.23473 C 2.77555756156289E-017 -0.20463 -0.00226 -0.17454 -0.00608 -0.14445 C -0.01424 -0.00856999999999999 -0.01094 -0.08426 -0.00764 0.17592 C -0.00764 0.18171 -0.00781 0.16412 -0.00608 0.15879 C -0.00399 0.15231 0.00122 0.14814 0.00365 0.14166 C 0.00625 0.13449 0.01163 0.12013 0.01163 0.12013 C 0.01667 0.08287 0.00903 0.13009 0.01823 0.09652 C 0.02188 0.0831 0.02118 0.06689 0.02465 0.05347 C 0.0309 0.03009 0.04063 0.00787 0.04722 -0.01528 C 0.05139 -0.02987 0.05278 -0.04584 0.05677 -0.06042 C 0.05903 -0.06852 0.0625 -0.07616 0.06493 -0.08426 C 0.06736 -0.1044 0.07274 -0.12639 0.07951 -0.14445 C 0.08472 -0.18797 0.07708 -0.1301 0.0842 -0.16806 C 0.08559 -0.17593 0.0849 -0.1845 0.0875 -0.19167 C 0.0901 -0.19885 0.09549 -0.2132 0.09549 -0.2132 C 0.09913 -0.23635 0.09479 -0.21297 0.10035 -0.23264 C 0.10399 -0.24584 0.10503 -0.26019 0.10851 -0.27338 C 0.10938 -0.28311 0.10903 -0.28889 0.11163 -0.297 C 0.11267 -0.3 0.11563 -0.30278 0.11493 -0.30579 C 0.11441 -0.30787 0.11163 -0.30417 0.11007 -0.30348 C 0.10556 -0.28889 0.1059 -0.28357 0.10365 -0.2669 C 0.10243 -0.25764 0.09878 -0.23912 0.09878 -0.23912 C 0.09497 -0.16575 0.0849 -0.09329 0.08108 -0.01968 C 0.07813 0.15393 0.07951 0.04213 0.07951 0.31574 E">
                                      <p:cBhvr>
                                        <p:cTn id="102" dur="5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83 -0.05116 C 0.07344 -0.03658 0.0724 -0.0257 0.06841 -0.01227 C 0.06563 0.00694 0.06233 0.02685 0.05868 0.04583 C 0.05556 0.08055 0.05469 0.12337 0.04254 0.15532 C 0.04045 0.17523 0.0349 0.19143 0.03125 0.21134 C 0.02778 0.22986 0.025 0.24814 0.02327 0.26712 C 0.02431 0.27569 0.02257 0.28587 0.02639 0.29305 C 0.0283 0.29652 0.0349 0.2949 0.03611 0.29097 C 0.03837 0.28356 0.03577 0.275 0.03455 0.26712 C 0.03386 0.26273 0.02969 0.25601 0.02813 0.25208 C 0.02257 0.23842 0.01702 0.22453 0.00868 0.21342 C 0.00035 0.20231 -0.00278 0.20509 -0.01059 0.18981 C -0.01441 0.18217 -0.01423 0.18171 -0.02031 0.17476 C -0.03455 0.15833 -0.05052 0.14305 -0.06389 0.12523 C -0.06962 0.11759 -0.0743 0.10925 -0.08003 0.10162 C -0.0835 0.09699 -0.08611 0.0912 -0.08958 0.08657 C -0.09687 0.07685 -0.10503 0.06828 -0.11232 0.05856 C -0.11666 0.05277 -0.1283 0.04583 -0.1283 0.04583 C -0.13993 0.01967 -0.1559 0.0081 -0.17361 -0.00811 C -0.20364 -0.03565 -0.16753 -0.00556 -0.2026 -0.0338 C -0.20798 -0.0382 -0.22552 -0.03959 -0.23003 -0.04028 C -0.30052 -0.03843 -0.28385 -0.04167 -0.32031 -0.0338 C -0.32187 -0.03241 -0.32343 -0.03056 -0.32517 -0.02963 C -0.3283 -0.02778 -0.33489 -0.02524 -0.33489 -0.02524 C -0.34149 -0.01852 -0.35121 -0.00857 -0.35903 -0.00579 C -0.36232 -0.00163 -0.36632 0.00185 -0.36875 0.00694 C -0.36979 0.00902 -0.37048 0.01157 -0.37187 0.01342 C -0.37934 0.02361 -0.38802 0.03171 -0.39444 0.04351 C -0.40104 0.05578 -0.39444 0.04375 -0.40104 0.05856 C -0.40312 0.06296 -0.40746 0.07152 -0.40746 0.07152 C -0.41007 0.0824 -0.41493 0.09143 -0.41875 0.10162 C -0.42413 0.13125 -0.42309 0.16574 -0.43646 0.19189 C -0.44062 0.21504 -0.43489 0.18726 -0.44132 0.20694 C -0.44271 0.21111 -0.44444 0.2199 -0.44444 0.2199 C -0.44392 0.22916 -0.44479 0.23888 -0.44288 0.24791 C -0.44288 0.24791 -0.42847 0.25347 -0.42673 0.25439 C -0.41753 0.24629 -0.41979 0.24699 -0.41232 0.24351 C -0.40903 0.24212 -0.4026 0.23935 -0.4026 0.23935 C -0.39218 0.23009 -0.38576 0.22824 -0.37361 0.2243 C -0.36771 0.22037 -0.36146 0.21944 -0.35573 0.2155 C -0.34896 0.21087 -0.34253 0.20717 -0.33489 0.20486 C -0.32343 0.20162 -0.31024 0.20046 -0.2993 0.19421 C -0.28819 0.18773 -0.27864 0.17777 -0.26701 0.17268 C -0.26493 0.1706 -0.26284 0.16805 -0.26059 0.1662 C -0.25903 0.16504 -0.25712 0.1655 -0.25573 0.16412 C -0.24479 0.15254 -0.26041 0.16134 -0.24774 0.15532 C -0.24305 0.14907 -0.24097 0.14328 -0.23489 0.14027 C -0.23385 0.13819 -0.23298 0.13564 -0.23159 0.13379 C -0.23021 0.13194 -0.22795 0.13148 -0.22673 0.12962 C -0.22118 0.12106 -0.2151 0.10856 -0.21232 0.09745 C -0.21302 0.09004 -0.21198 0.07939 -0.21701 0.07361 C -0.21996 0.07013 -0.22673 0.06504 -0.22673 0.06504 C -0.22986 0.07754 -0.23159 0.0824 -0.22673 0.09513 E">
                                      <p:cBhvr>
                                        <p:cTn id="106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79 -0.06412 C 0.02031 -0.0669 0.02031 -0.07014 0.02136 -0.07269 C 0.02361 -0.07801 0.02934 -0.08773 0.02934 -0.08773 C 0.03299 -0.10116 0.04149 -0.11644 0.05035 -0.12431 C 0.05243 -0.13333 0.05191 -0.13519 0.06163 -0.13935 C 0.06493 -0.14074 0.07136 -0.14352 0.07136 -0.14352 C 0.07761 -0.14283 0.08958 -0.14398 0.09722 -0.13935 C 0.10139 -0.13681 0.11007 -0.13079 0.11007 -0.13079 C 0.11476 -0.1213 0.12066 -0.11806 0.12761 -0.11343 C 0.14271 -0.10347 0.15816 -0.09583 0.17465 -0.0919 C 0.20104 -0.09329 0.22726 -0.09445 0.25365 -0.0963 C 0.28125 -0.09815 0.30747 -0.10764 0.33108 -0.12639 C 0.34202 -0.13519 0.35486 -0.14097 0.36476 -0.15208 C 0.375 -0.1632 0.37934 -0.17107 0.39045 -0.18009 C 0.39531 -0.18982 0.40035 -0.1919 0.40677 -0.19954 C 0.4257 -0.22176 0.40087 -0.20023 0.42118 -0.21667 C 0.42483 -0.22292 0.42708 -0.23033 0.4309 -0.23611 C 0.43438 -0.2412 0.43872 -0.24445 0.44219 -0.24908 C 0.4434 -0.25185 0.44392 -0.25509 0.44549 -0.25764 C 0.44688 -0.26019 0.44896 -0.26158 0.45017 -0.26412 C 0.46354 -0.29213 0.44948 -0.27199 0.4632 -0.28982 C 0.46788 -0.30533 0.47361 -0.31991 0.47917 -0.33495 C 0.48542 -0.35232 0.48767 -0.37269 0.49236 -0.39097 C 0.49115 -0.4463 0.49497 -0.48472 0.46962 -0.52639 C 0.46632 -0.53866 0.4691 -0.53125 0.45833 -0.54583 C 0.44896 -0.5588 0.43785 -0.5838 0.42622 -0.59306 C 0.42327 -0.59514 0.42049 -0.59699 0.41806 -0.59954 C 0.41458 -0.60278 0.41198 -0.60718 0.40851 -0.61019 C 0.39392 -0.62292 0.4033 -0.61019 0.39219 -0.62315 C 0.37674 -0.64144 0.39827 -0.62176 0.36979 -0.64468 C 0.35903 -0.65324 0.35399 -0.6632 0.34236 -0.66829 C 0.3316 -0.67755 0.32083 -0.68588 0.30833 -0.68982 C 0.29688 -0.70023 0.31146 -0.6882 0.29549 -0.6963 C 0.2934 -0.69722 0.29236 -0.69977 0.29063 -0.7007 C 0.28854 -0.70185 0.27743 -0.70463 0.27604 -0.70486 C 0.26754 -0.71088 0.26163 -0.71111 0.25191 -0.71343 C 0.23073 -0.71852 0.21059 -0.725 0.18906 -0.72847 C 0.13802 -0.72755 0.08524 -0.73009 0.0342 -0.72199 C 0.02813 -0.71806 0.02257 -0.7132 0.01649 -0.70926 C 0.01094 -0.70185 0.01094 -0.70139 0.00365 -0.69421 C -0.00104 -0.68958 -0.00729 -0.68727 -0.01094 -0.68125 C -0.01528 -0.67431 -0.01944 -0.6669 -0.02378 -0.65972 C -0.03038 -0.64861 -0.03038 -0.64028 -0.03837 -0.62963 C -0.04201 -0.61435 -0.03663 -0.6338 -0.04635 -0.6125 C -0.04965 -0.60533 -0.05139 -0.59607 -0.05451 -0.58866 C -0.05694 -0.58287 -0.06024 -0.57755 -0.0625 -0.57153 C -0.06354 -0.56875 -0.06476 -0.56574 -0.0658 -0.56296 C -0.07031 -0.53866 -0.06389 -0.56852 -0.07066 -0.54792 C -0.07153 -0.54514 -0.07344 -0.53056 -0.07378 -0.52847 C -0.07535 -0.51829 -0.07899 -0.5088 -0.08021 -0.49838 C -0.08142 -0.48773 -0.08351 -0.4662 -0.08351 -0.4662 C -0.08229 -0.4206 -0.08559 -0.40139 -0.06736 -0.36945 C -0.06319 -0.35301 -0.06684 -0.35926 -0.05764 -0.35 C -0.04896 -0.33079 -0.0375 -0.32083 -0.02535 -0.30695 C -0.01805 -0.29861 -0.01024 -0.29283 -0.00278 -0.28542 C -0.00035 -0.2831 0.00104 -0.27917 0.00365 -0.27685 C 0.01389 -0.26783 0.02552 -0.26574 0.03594 -0.25764 C 0.05365 -0.24375 0.07292 -0.23287 0.09219 -0.22315 C 0.10122 -0.21852 0.10903 -0.21042 0.11806 -0.20602 C 0.12274 -0.2037 0.12795 -0.2037 0.13264 -0.20162 C 0.14844 -0.19468 0.16129 -0.18658 0.17778 -0.18241 C 0.18976 -0.17546 0.20052 -0.17176 0.21337 -0.16945 C 0.24045 -0.15579 0.27188 -0.15324 0.30017 -0.15 C 0.33681 -0.14583 0.4099 -0.14583 0.4099 -0.14583 C 0.4158 -0.14445 0.42222 -0.14514 0.42761 -0.14144 C 0.42969 -0.14005 0.43177 -0.13796 0.43403 -0.13704 C 0.4382 -0.13519 0.44722 -0.13287 0.44722 -0.13287 C 0.46111 -0.12315 0.47691 -0.11852 0.49045 -0.10695 C 0.49983 -0.09908 0.50747 -0.08935 0.51806 -0.08542 C 0.52031 -0.08333 0.52222 -0.08079 0.52465 -0.07917 C 0.52726 -0.07732 0.53021 -0.07685 0.53264 -0.07477 C 0.53507 -0.07245 0.53646 -0.06852 0.53906 -0.0662 C 0.54306 -0.06273 0.55191 -0.05764 0.55191 -0.05764 C 0.55729 -0.05046 0.56129 -0.04931 0.56806 -0.04468 C 0.57379 -0.03357 0.58073 -0.02431 0.58906 -0.01667 C 0.59618 -0.00255 0.6059 0.00833 0.61163 0.02407 C 0.60938 0.075 0.61302 0.04676 0.60851 0.06713 C 0.60781 0.06991 0.60781 0.07315 0.60677 0.07569 C 0.60504 0.08032 0.60035 0.08866 0.60035 0.08866 C 0.59636 0.10555 0.57674 0.11319 0.56649 0.12315 C 0.56059 0.12893 0.55556 0.13588 0.54879 0.14028 E">
                                      <p:cBhvr>
                                        <p:cTn id="110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71 -0.04745 C 0.02014 -0.0537 0.02205 -0.05625 0.02622 -0.05856 C 0.02761 -0.06042 0.029 -0.0625 0.03038 -0.06412 C 0.03143 -0.06505 0.03282 -0.06481 0.03368 -0.06597 C 0.03559 -0.06782 0.03698 -0.07106 0.03889 -0.07315 C 0.04045 -0.07523 0.04236 -0.07708 0.04427 -0.0787 C 0.04792 -0.08704 0.04896 -0.09213 0.05174 -0.10093 C 0.0507 -0.1287 0.0507 -0.15417 0.04306 -0.17847 C 0.04011 -0.1875 0.03959 -0.19676 0.03472 -0.20255 C 0.02604 -0.22708 0.01788 -0.24028 0.00504 -0.25787 C -0.00468 -0.27083 -0.01354 -0.28241 -0.02361 -0.29468 C -0.02587 -0.29745 -0.0276 -0.30139 -0.02986 -0.30393 C -0.03698 -0.31111 -0.05278 -0.32222 -0.06059 -0.32778 C -0.06284 -0.32963 -0.06562 -0.32917 -0.06805 -0.32986 C -0.07083 -0.33079 -0.07656 -0.33333 -0.07656 -0.33333 C -0.08559 -0.33287 -0.09496 -0.33264 -0.10399 -0.33171 C -0.11024 -0.33102 -0.11597 -0.32569 -0.12205 -0.32431 C -0.12621 -0.32338 -0.13055 -0.32292 -0.13472 -0.32222 C -0.14028 -0.31782 -0.14583 -0.31227 -0.15156 -0.30949 C -0.15729 -0.30185 -0.16389 -0.2963 -0.16962 -0.28912 C -0.17083 -0.2875 -0.1717 -0.28518 -0.17291 -0.28356 C -0.17378 -0.28218 -0.175 -0.28125 -0.17604 -0.28009 C -0.17743 -0.27222 -0.18055 -0.27153 -0.1835 -0.26505 C -0.18767 -0.25648 -0.19062 -0.24583 -0.196 -0.23935 C -0.20034 -0.22106 -0.20659 -0.20579 -0.21302 -0.18935 C -0.21493 -0.18009 -0.21632 -0.17176 -0.21944 -0.16366 C -0.21979 -0.15995 -0.21979 -0.15625 -0.22048 -0.15278 C -0.221 -0.15046 -0.22222 -0.14931 -0.22257 -0.14722 C -0.22899 -0.11597 -0.22118 -0.14421 -0.22691 -0.12477 C -0.23003 -0.10231 -0.23264 -0.08009 -0.2342 -0.05671 C -0.23611 0.01829 -0.23593 -0.0081 -0.2342 0.11134 C -0.23385 0.13218 -0.23003 0.15347 -0.22795 0.17407 C -0.22743 0.17847 -0.2283 0.18333 -0.22691 0.18704 C -0.22604 0.18889 -0.22396 0.18704 -0.22257 0.18704 E">
                                      <p:cBhvr>
                                        <p:cTn id="114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9" dur="2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275" fill="hold">
                                          <p:stCondLst>
                                            <p:cond delay="227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780" autoRev="1" fill="hold">
                                          <p:stCondLst>
                                            <p:cond delay="227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80" fill="hold">
                                          <p:stCondLst>
                                            <p:cond delay="432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8:59:42Z</dcterms:created>
  <dc:creator>Betsan Thomas</dc:creator>
  <dc:description/>
  <dc:language>en-US</dc:language>
  <cp:lastModifiedBy>Betsan Jones</cp:lastModifiedBy>
  <dcterms:modified xsi:type="dcterms:W3CDTF">2009-07-06T18:03:13Z</dcterms:modified>
  <cp:revision>6</cp:revision>
  <dc:subject/>
  <dc:title>Slide 1</dc:title>
</cp:coreProperties>
</file>